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837-21E4-4238-B203-AC1ED331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189-8FDB-4FC9-AD2D-A64285FF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5D3-C650-4E6E-B91B-6E3FF6F9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05E-04BA-4D9A-9ECE-7CD93287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05B-56E3-455A-9063-67A56551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C9E-FF87-46AD-BCE1-A301A68C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A1F-D1D2-4E34-9C3B-CA5E935A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32C9-D331-4452-9894-E93DF0D5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3AE-402B-4484-98E8-72EFFA9E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9EF-8641-43F9-ACD6-730A62DA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D34-1C81-438F-B7AB-66558E19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4C5-05FB-4090-ACBD-5ED7D904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B643-0780-417B-8C97-CFF9FA874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Less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1052640"/>
            <a:ext cx="7056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800"/>
                </a:solidFill>
                <a:latin typeface="Arial"/>
              </a:rPr>
              <a:t>Pre-Planning: Knowledge of students and sylla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languag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educational and cultural 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likely levels of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different learning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of content and organisation of the sylla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s of any ex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800"/>
                </a:solidFill>
                <a:latin typeface="Arial"/>
              </a:rPr>
              <a:t>Four main planning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ies: the way students will be grouped / move around the class / work quietly side-by-side / involved in a boisterous group-writing activity: VARI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lls: language skills and sub-skills to prac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: morphology, syntax, vocabulary, meaning and functions, pronunciation, sp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: provoking interest &amp; involvement; even when textbook is used, we need to judge topics and content; replace if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the most interesting content relies on good activities and 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al rea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Less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15640" y="2923920"/>
            <a:ext cx="7056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800"/>
                </a:solidFill>
                <a:latin typeface="Arial"/>
              </a:rPr>
              <a:t>Pre-planning and th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chapter 22, page 310, Figure 2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The planning continu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15640" y="1052640"/>
            <a:ext cx="70563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800"/>
                </a:solidFill>
                <a:latin typeface="Arial"/>
              </a:rPr>
              <a:t>On the one end of the continu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ir head, while going to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ing a course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gle path’: teachers walk into class with no real idea of that they are going to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different learning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of content and organisation of the sylla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ments of any ex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800"/>
                </a:solidFill>
                <a:latin typeface="Arial"/>
              </a:rPr>
              <a:t>At the other end of the continu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ing formal plans for their classes: what they are going to do and why (either because they are going to be observed or required by some author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800"/>
                </a:solidFill>
                <a:latin typeface="Arial"/>
              </a:rPr>
              <a:t>Vast majority of lesson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s place between these two extremes: scribble things in their notebooks e.g. book page number, write something complex (list of words needed, questions to ask); list of web sites to visit with the information they want the students to look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Lesson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5640" y="2923920"/>
            <a:ext cx="7056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800"/>
                </a:solidFill>
                <a:latin typeface="Arial"/>
              </a:rPr>
              <a:t>Making a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from chapter 22, pages 312-3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4:09:42Z</dcterms:created>
  <dc:creator>Sofocleous</dc:creator>
  <dc:description/>
  <dc:language>en-US</dc:language>
  <cp:lastModifiedBy>Sofocleous</cp:lastModifiedBy>
  <dcterms:modified xsi:type="dcterms:W3CDTF">2008-11-27T14:22:50Z</dcterms:modified>
  <cp:revision>5</cp:revision>
  <dc:subject/>
  <dc:title>Lesson Planning</dc:title>
</cp:coreProperties>
</file>